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AFC7-767D-4A88-A374-F6F21C44E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54FA-AD14-4A63-B1A2-FEEED4121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A9A6-5843-4FD1-B5B2-5400ED292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E9CB-0015-4DF6-A789-EABB90FAD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D073D-A085-433D-84E8-97FDA86D2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BDBBC-205F-4CD3-BD58-B6371A516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09787-4B67-4FBE-BC26-D540CDD07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D704C-7189-45BC-88B7-B59E4CA88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744D2-71DE-419B-AF3F-D60A471F4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04D35-B2FC-44BE-8C55-307CC076A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9EE84-4F11-4A09-A0D5-E53ABD8C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C735-C074-492B-B423-03A67A968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7D316-C04A-4095-BA65-9B91E9D9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39622-C00B-4160-A493-C8E59687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29F1F-2B95-48D2-81C7-0D620952A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247EB-119E-440F-92B9-5E525598D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E1ECC-B65E-4E96-8BAB-6500E3BF4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944D-6E11-4314-8893-750462524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7E83-2184-4340-A876-3AD940E43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3699-D94D-4D5A-A7AE-CDD333211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60E5-2954-400B-BBF4-63E1BD8DB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0BA7-5FBC-4F2B-BCF5-FC64E086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77F0-CAB2-430D-A97C-5662BC6E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EDB7-EC84-49BA-8E20-096F5D0A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7866F-B750-4C15-A58D-ADB6355F873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466B4-4266-4BF0-AD5E-9B699C06ACA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533520" y="4579920"/>
            <a:ext cx="81532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Мара Атанасова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СОУ ”Екзарх Антим І”                                              Казанлък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971640" y="1916280"/>
            <a:ext cx="662472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АРХИТЕКТУРНИ СТИЛОВЕ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Рококо се отличава с грациозност, лекота. Този стил е логически резултат от развитието на Барока, но заменя тъмните цветове, позлатата  със светли тонове- розово, синьо, зелено, бяло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11280" y="2133720"/>
            <a:ext cx="4390920" cy="3168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651640" y="2492280"/>
            <a:ext cx="2786040" cy="2592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762120" y="1916280"/>
            <a:ext cx="778032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Стил в изкуството и архитектурата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Част от западноевропейската култура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Развитието на този  стил започва в     началото   на  V  век  в  Западна Европа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059280" y="549360"/>
            <a:ext cx="31683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ГОТИКА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Изразът  “готи”, за първи път се използва  през Ренесанса и означава “варвари” за нахлулите в Римската импер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403280" y="1844640"/>
            <a:ext cx="2336760" cy="3889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859280" y="1844640"/>
            <a:ext cx="2957400" cy="3886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Готиката се характеризира с обстойна украса, островърхи арки и сложно оребрени сводов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716360" y="1844640"/>
            <a:ext cx="1905120" cy="25401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948360" y="3284640"/>
            <a:ext cx="1584360" cy="2663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2492280"/>
            <a:ext cx="3744720" cy="3033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Стил в изкуството и архитектурата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Заражда се около 1600г. в Рим и се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разпространява   голяма част от Европа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203640" y="476280"/>
            <a:ext cx="3168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БАРОК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умата “барок” означава неправилна перла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ли фалшив скъпоценен камък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3301920" cy="3024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219640" y="2276640"/>
            <a:ext cx="2925720" cy="2842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В архитектурата Барокът се отличава от другите стилове с пищност, претрупаност, изобилие на детайли.Акцент се поставя върху струпването на обеми, колонади, куполи, цветни ефект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258920" y="2133720"/>
            <a:ext cx="2120760" cy="3403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716360" y="2276640"/>
            <a:ext cx="3306960" cy="3009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Стил в изкуството и архитектурата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Възниква в началото на ХVІІІ век във Франция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Разпространява се в Западна и Централна Европа, Русия и Германия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987640" y="549360"/>
            <a:ext cx="338472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РОКОКО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умата “рококо” от френски означава раковин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356000" y="4221000"/>
            <a:ext cx="3175200" cy="18003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11280" y="2133720"/>
            <a:ext cx="3456000" cy="29509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148360" y="1844640"/>
            <a:ext cx="3009960" cy="2260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16:46:50Z</dcterms:created>
  <dc:creator>Home</dc:creator>
  <dc:description/>
  <dc:language>en-US</dc:language>
  <cp:lastModifiedBy>Home</cp:lastModifiedBy>
  <dcterms:modified xsi:type="dcterms:W3CDTF">2012-03-17T19:20:49Z</dcterms:modified>
  <cp:revision>4</cp:revision>
  <dc:subject/>
  <dc:title>Слайд 1</dc:title>
</cp:coreProperties>
</file>